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F0CB-1C96-4DE5-B56A-02492F8E64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68ED-6827-4FD9-87DC-FAA54D03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D49A-95A0-45AF-A4F2-650573D6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546F9-6F71-4C76-831C-DC78EB90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7AC8-B1EA-47E6-A2CE-9D09AD55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F794F-8A99-4763-8092-F2247597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2EC03-3715-43E6-91E3-E91DF8C4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16A48-E84A-4BEF-9828-C4CB1D51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0BAB0-0868-45AE-AEB5-EC24A91F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CBB33-7A6E-47F8-95E9-3C9A8BCF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F18BC-B53B-4FE1-A020-3D609F14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2B047-1EEE-4D6A-AF23-9B241DDB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9E66-DE7D-4193-97D8-60855F70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4757B-8835-4D92-9FAC-BBA73320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FAEE9-608B-4CC6-AD65-FFC11FB3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D2B79-AA44-4607-85F9-B0DC7E90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C1245-35BA-44DE-8C2B-735E2FA1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60F66-4679-4DFD-AA37-A91B7BB5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69CB8-A0B2-4CAE-8850-8642011B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2558-2538-4A22-AFDE-5D338AEF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88EA-BFD7-4ACE-81DF-2349DA67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01F5-8E49-42C6-A097-34626665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A160-7F26-410E-92DF-56EB146F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F8A8-21FA-4834-AB8B-5756B749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5408-74DA-4586-91ED-E2A71E19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41F20-888C-45FC-9367-DF824E22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9A05-EBE1-495F-9017-6AE43A55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0561-B7EB-4877-8881-D1478BE6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2AD5C-36FC-445E-A62C-3A345F68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B1F7-FCF6-4E52-84EC-798E2C09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E8E62-4B60-47A1-97AA-CF4C8260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0C5E-6753-4C0A-90B2-0E096B7D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4C78-FAF5-42A5-977B-F133750A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77FA7-BB67-4FD1-8C76-0B1AD5ED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1C3D-AA1D-4215-BE67-4E11731C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97894-3401-483C-8538-08876AC8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84548-9012-4043-AE4E-50E9E9C1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F073-105F-4E83-BAE7-00259A20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65A1-2D15-4FD8-9CEE-3A9D77B0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9ACF-DA09-432E-8B20-3958439F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99053-838D-4851-B233-D7EC5C97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6BB0-8B98-4FC9-BBBF-C964C4F5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0934-434B-40AF-9843-E5421136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49C8B-DB39-4EFE-B625-D19E73A0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3CDF6-3636-4973-A674-B1DF9D2C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3369-F452-4470-81C5-82411688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5264-F3ED-4ABD-971D-518D07DB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A5CA-060E-4498-AEC8-B81FDBC9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50528-B580-4D53-B336-E8DADFA3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059D-40E5-47F4-9FD1-ECB7923FC9C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7464-312A-4499-9638-9E2306558D3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3A5A-C631-4291-9AB6-3853CC7BD24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33F9-2E8C-4FF6-8600-ED148441FA2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500" spc="-1" strike="noStrike">
                <a:solidFill>
                  <a:srgbClr val="ffffff"/>
                </a:solidFill>
                <a:latin typeface="Comic Sans MS"/>
              </a:rPr>
              <a:t>LIGHT !</a:t>
            </a:r>
            <a:endParaRPr b="1" lang="en-US" sz="115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280" y="4005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from bonfires to lasers</a:t>
            </a: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ow do we see things that are not sources of light?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5805000"/>
            <a:ext cx="77040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bounces off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and some reaches our eyes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65" name="Picture 4" descr="MCj02151650000[1]"/>
          <p:cNvPicPr/>
          <p:nvPr/>
        </p:nvPicPr>
        <p:blipFill>
          <a:blip r:embed="rId1"/>
          <a:stretch/>
        </p:blipFill>
        <p:spPr>
          <a:xfrm flipH="1" rot="20750400">
            <a:off x="826560" y="1916280"/>
            <a:ext cx="2304720" cy="20318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7211160" y="2182680"/>
            <a:ext cx="1354680" cy="1810080"/>
            <a:chOff x="7211160" y="2182680"/>
            <a:chExt cx="1354680" cy="1810080"/>
          </a:xfrm>
        </p:grpSpPr>
        <p:sp>
          <p:nvSpPr>
            <p:cNvPr id="267" name="Freeform 6"/>
            <p:cNvSpPr/>
            <p:nvPr/>
          </p:nvSpPr>
          <p:spPr>
            <a:xfrm rot="20749200">
              <a:off x="7412760" y="2276280"/>
              <a:ext cx="968760" cy="162216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1622160"/>
                <a:gd name="textAreaBottom" fmla="*/ 1622520 h 162216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7"/>
            <p:cNvSpPr/>
            <p:nvPr/>
          </p:nvSpPr>
          <p:spPr>
            <a:xfrm rot="13945800">
              <a:off x="7310160" y="2798640"/>
              <a:ext cx="864720" cy="6753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 rot="21081000">
              <a:off x="7521480" y="2904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9"/>
            <p:cNvSpPr/>
            <p:nvPr/>
          </p:nvSpPr>
          <p:spPr>
            <a:xfrm rot="2116200">
              <a:off x="7380360" y="2820240"/>
              <a:ext cx="654480" cy="72288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13" descr="MCj02511320000[1]"/>
          <p:cNvPicPr/>
          <p:nvPr/>
        </p:nvPicPr>
        <p:blipFill>
          <a:blip r:embed="rId2"/>
          <a:stretch/>
        </p:blipFill>
        <p:spPr>
          <a:xfrm>
            <a:off x="3851280" y="3824280"/>
            <a:ext cx="2376360" cy="1878120"/>
          </a:xfrm>
          <a:prstGeom prst="rect">
            <a:avLst/>
          </a:prstGeom>
          <a:ln w="0">
            <a:noFill/>
          </a:ln>
        </p:spPr>
      </p:pic>
      <p:sp>
        <p:nvSpPr>
          <p:cNvPr id="272" name="Line 19"/>
          <p:cNvSpPr/>
          <p:nvPr/>
        </p:nvSpPr>
        <p:spPr>
          <a:xfrm flipV="1">
            <a:off x="5651640" y="2491920"/>
            <a:ext cx="720720" cy="1368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0"/>
          <p:cNvSpPr/>
          <p:nvPr/>
        </p:nvSpPr>
        <p:spPr>
          <a:xfrm>
            <a:off x="3059280" y="3429000"/>
            <a:ext cx="1081080" cy="57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6084720" y="3428640"/>
            <a:ext cx="1297080" cy="64764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300720" y="4797360"/>
            <a:ext cx="1297080" cy="216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look out</a:t>
            </a:r>
            <a:r>
              <a:rPr b="1" lang="en-GB" sz="9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40360" y="692280"/>
            <a:ext cx="266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How do you know that the baby squirrel watches as it feeds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79" name="Picture 4" descr="baby squirre croppedl"/>
          <p:cNvPicPr/>
          <p:nvPr/>
        </p:nvPicPr>
        <p:blipFill>
          <a:blip r:embed="rId1"/>
          <a:stretch/>
        </p:blipFill>
        <p:spPr>
          <a:xfrm>
            <a:off x="539640" y="2781360"/>
            <a:ext cx="5616720" cy="3263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eflectio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040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en light bounces off something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 the light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flect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 can try this with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ugh surface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shiny surfa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460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720" y="404640"/>
            <a:ext cx="4124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hiny surfaces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reflected as a beam and can be seen on the wall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900000" y="560160"/>
            <a:ext cx="6143400" cy="5300280"/>
            <a:chOff x="900000" y="560160"/>
            <a:chExt cx="6143400" cy="5300280"/>
          </a:xfrm>
        </p:grpSpPr>
        <p:pic>
          <p:nvPicPr>
            <p:cNvPr id="290" name="Picture 6" descr="hand-mirror"/>
            <p:cNvPicPr/>
            <p:nvPr/>
          </p:nvPicPr>
          <p:blipFill>
            <a:blip r:embed="rId1"/>
            <a:stretch/>
          </p:blipFill>
          <p:spPr>
            <a:xfrm rot="16483200">
              <a:off x="4274280" y="322164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7"/>
            <p:cNvSpPr/>
            <p:nvPr/>
          </p:nvSpPr>
          <p:spPr>
            <a:xfrm flipV="1">
              <a:off x="4140360" y="3933720"/>
              <a:ext cx="2158920" cy="93672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 flipH="1" flipV="1">
              <a:off x="4211640" y="2204640"/>
              <a:ext cx="201600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 rot="9786600">
              <a:off x="1547280" y="907200"/>
              <a:ext cx="2819520" cy="2884680"/>
            </a:xfrm>
            <a:prstGeom prst="parallelogram">
              <a:avLst>
                <a:gd name="adj" fmla="val 2994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2771640" y="1341360"/>
              <a:ext cx="792360" cy="720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900000" y="2565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"/>
                </a:rPr>
                <a:t>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7"/>
          <p:cNvSpPr/>
          <p:nvPr/>
        </p:nvSpPr>
        <p:spPr>
          <a:xfrm>
            <a:off x="6877080" y="443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720" y="404640"/>
            <a:ext cx="4340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ove the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ight reaches a different place on the wall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00" name="Picture 5" descr="hand-mirror"/>
          <p:cNvPicPr/>
          <p:nvPr/>
        </p:nvPicPr>
        <p:blipFill>
          <a:blip r:embed="rId1"/>
          <a:stretch/>
        </p:blipFill>
        <p:spPr>
          <a:xfrm rot="15195600">
            <a:off x="4274280" y="3294720"/>
            <a:ext cx="4122720" cy="1079640"/>
          </a:xfrm>
          <a:prstGeom prst="rect">
            <a:avLst/>
          </a:prstGeom>
          <a:ln w="0">
            <a:noFill/>
          </a:ln>
        </p:spPr>
      </p:pic>
      <p:sp>
        <p:nvSpPr>
          <p:cNvPr id="301" name="Line 6"/>
          <p:cNvSpPr/>
          <p:nvPr/>
        </p:nvSpPr>
        <p:spPr>
          <a:xfrm flipV="1">
            <a:off x="4140360" y="4005000"/>
            <a:ext cx="2158920" cy="93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3995640" y="3357360"/>
            <a:ext cx="2232000" cy="50292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 rot="9786600">
            <a:off x="1547280" y="907200"/>
            <a:ext cx="2819520" cy="2884680"/>
          </a:xfrm>
          <a:prstGeom prst="parallelogram">
            <a:avLst>
              <a:gd name="adj" fmla="val 2994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2843280" y="2852640"/>
            <a:ext cx="792000" cy="720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90000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Look in a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76360" y="1484280"/>
            <a:ext cx="74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is reflected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can see a reflection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09" name="Group 19"/>
          <p:cNvGrpSpPr/>
          <p:nvPr/>
        </p:nvGrpSpPr>
        <p:grpSpPr>
          <a:xfrm>
            <a:off x="607680" y="1612800"/>
            <a:ext cx="7814160" cy="3832200"/>
            <a:chOff x="607680" y="1612800"/>
            <a:chExt cx="7814160" cy="3832200"/>
          </a:xfrm>
        </p:grpSpPr>
        <p:sp>
          <p:nvSpPr>
            <p:cNvPr id="310" name="Line 16"/>
            <p:cNvSpPr/>
            <p:nvPr/>
          </p:nvSpPr>
          <p:spPr>
            <a:xfrm flipV="1">
              <a:off x="2843280" y="4437000"/>
              <a:ext cx="1869840" cy="100800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4" descr="MCj02151650000[1]"/>
            <p:cNvPicPr/>
            <p:nvPr/>
          </p:nvPicPr>
          <p:blipFill>
            <a:blip r:embed="rId1"/>
            <a:stretch/>
          </p:blipFill>
          <p:spPr>
            <a:xfrm flipH="1" rot="21328800">
              <a:off x="684000" y="1700280"/>
              <a:ext cx="2305080" cy="203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5"/>
            <p:cNvGrpSpPr/>
            <p:nvPr/>
          </p:nvGrpSpPr>
          <p:grpSpPr>
            <a:xfrm>
              <a:off x="6797520" y="1779480"/>
              <a:ext cx="1624320" cy="1887840"/>
              <a:chOff x="6797520" y="1779480"/>
              <a:chExt cx="1624320" cy="1887840"/>
            </a:xfrm>
          </p:grpSpPr>
          <p:sp>
            <p:nvSpPr>
              <p:cNvPr id="313" name="Freeform 6"/>
              <p:cNvSpPr/>
              <p:nvPr/>
            </p:nvSpPr>
            <p:spPr>
              <a:xfrm rot="19894200">
                <a:off x="7125120" y="1911960"/>
                <a:ext cx="968760" cy="162216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160"/>
                  <a:gd name="textAreaBottom" fmla="*/ 1622520 h 162216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rc 7"/>
              <p:cNvSpPr/>
              <p:nvPr/>
            </p:nvSpPr>
            <p:spPr>
              <a:xfrm rot="13090800">
                <a:off x="7039080" y="247068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8"/>
              <p:cNvSpPr/>
              <p:nvPr/>
            </p:nvSpPr>
            <p:spPr>
              <a:xfrm rot="20226000">
                <a:off x="7270560" y="261072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9"/>
              <p:cNvSpPr/>
              <p:nvPr/>
            </p:nvSpPr>
            <p:spPr>
              <a:xfrm rot="1261200">
                <a:off x="7121520" y="2499840"/>
                <a:ext cx="654480" cy="72288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2880"/>
                  <a:gd name="textAreaBottom" fmla="*/ 723240 h 72288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Picture 15" descr="hand-mirror"/>
            <p:cNvPicPr/>
            <p:nvPr/>
          </p:nvPicPr>
          <p:blipFill>
            <a:blip r:embed="rId2"/>
            <a:stretch/>
          </p:blipFill>
          <p:spPr>
            <a:xfrm>
              <a:off x="2987640" y="3645000"/>
              <a:ext cx="41227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Line 12"/>
            <p:cNvSpPr/>
            <p:nvPr/>
          </p:nvSpPr>
          <p:spPr>
            <a:xfrm>
              <a:off x="2916360" y="3213000"/>
              <a:ext cx="1942920" cy="107964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3"/>
            <p:cNvSpPr/>
            <p:nvPr/>
          </p:nvSpPr>
          <p:spPr>
            <a:xfrm flipV="1">
              <a:off x="4932360" y="2997360"/>
              <a:ext cx="2303640" cy="129528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Picture 17" descr="MCj02151650000[1]"/>
          <p:cNvPicPr/>
          <p:nvPr/>
        </p:nvPicPr>
        <p:blipFill>
          <a:blip r:embed="rId3">
            <a:lum bright="18000"/>
          </a:blip>
          <a:stretch/>
        </p:blipFill>
        <p:spPr>
          <a:xfrm rot="11071200">
            <a:off x="826560" y="4797000"/>
            <a:ext cx="2305080" cy="2032560"/>
          </a:xfrm>
          <a:prstGeom prst="rect">
            <a:avLst/>
          </a:prstGeom>
          <a:ln w="0">
            <a:noFill/>
          </a:ln>
        </p:spPr>
      </p:pic>
      <p:sp>
        <p:nvSpPr>
          <p:cNvPr id="321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4" descr="MCj02151650000[1]"/>
          <p:cNvPicPr/>
          <p:nvPr/>
        </p:nvPicPr>
        <p:blipFill>
          <a:blip r:embed="rId1">
            <a:lum bright="18000"/>
          </a:blip>
          <a:stretch/>
        </p:blipFill>
        <p:spPr>
          <a:xfrm rot="9039600">
            <a:off x="2194920" y="5373000"/>
            <a:ext cx="2305080" cy="2031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2520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Change the direction of the light beam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35640" y="4652640"/>
            <a:ext cx="406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still reflected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You see a reflection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-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in a different  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direction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25" name="Group 15"/>
          <p:cNvGrpSpPr/>
          <p:nvPr/>
        </p:nvGrpSpPr>
        <p:grpSpPr>
          <a:xfrm>
            <a:off x="1678320" y="257040"/>
            <a:ext cx="5442480" cy="5548320"/>
            <a:chOff x="1678320" y="257040"/>
            <a:chExt cx="5442480" cy="5548320"/>
          </a:xfrm>
        </p:grpSpPr>
        <p:sp>
          <p:nvSpPr>
            <p:cNvPr id="326" name="Line 2"/>
            <p:cNvSpPr/>
            <p:nvPr/>
          </p:nvSpPr>
          <p:spPr>
            <a:xfrm flipV="1">
              <a:off x="3635280" y="4294080"/>
              <a:ext cx="792000" cy="151128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5" descr="MCj02151650000[1]"/>
            <p:cNvPicPr/>
            <p:nvPr/>
          </p:nvPicPr>
          <p:blipFill>
            <a:blip r:embed="rId2"/>
            <a:stretch/>
          </p:blipFill>
          <p:spPr>
            <a:xfrm flipH="1" rot="1350000">
              <a:off x="1978920" y="620640"/>
              <a:ext cx="2305080" cy="20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6"/>
            <p:cNvGrpSpPr/>
            <p:nvPr/>
          </p:nvGrpSpPr>
          <p:grpSpPr>
            <a:xfrm>
              <a:off x="5249160" y="346320"/>
              <a:ext cx="1871640" cy="1524240"/>
              <a:chOff x="5249160" y="346320"/>
              <a:chExt cx="1871640" cy="1524240"/>
            </a:xfrm>
          </p:grpSpPr>
          <p:sp>
            <p:nvSpPr>
              <p:cNvPr id="329" name="Freeform 7"/>
              <p:cNvSpPr/>
              <p:nvPr/>
            </p:nvSpPr>
            <p:spPr>
              <a:xfrm rot="17576400">
                <a:off x="5700600" y="297000"/>
                <a:ext cx="968760" cy="16225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520"/>
                  <a:gd name="textAreaBottom" fmla="*/ 1622880 h 162252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rc 8"/>
              <p:cNvSpPr/>
              <p:nvPr/>
            </p:nvSpPr>
            <p:spPr>
              <a:xfrm rot="10773000">
                <a:off x="5697720" y="92340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9"/>
              <p:cNvSpPr/>
              <p:nvPr/>
            </p:nvSpPr>
            <p:spPr>
              <a:xfrm rot="17907600">
                <a:off x="6016320" y="111924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10"/>
              <p:cNvSpPr/>
              <p:nvPr/>
            </p:nvSpPr>
            <p:spPr>
              <a:xfrm rot="20542800">
                <a:off x="5818680" y="955080"/>
                <a:ext cx="654480" cy="72324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11" descr="hand-mirror"/>
            <p:cNvPicPr/>
            <p:nvPr/>
          </p:nvPicPr>
          <p:blipFill>
            <a:blip r:embed="rId3"/>
            <a:stretch/>
          </p:blipFill>
          <p:spPr>
            <a:xfrm>
              <a:off x="2627280" y="314136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Line 12"/>
            <p:cNvSpPr/>
            <p:nvPr/>
          </p:nvSpPr>
          <p:spPr>
            <a:xfrm>
              <a:off x="3492360" y="2133360"/>
              <a:ext cx="107964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 flipV="1">
              <a:off x="4716360" y="1701720"/>
              <a:ext cx="1079640" cy="201600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52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ultip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reflections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amp hangs between two large mirrors on opposite wall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reflection in the first mirror is reflected in the second mirror, which is reflected again in the first mirror - - -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39" name="Picture 4" descr="reflections3"/>
          <p:cNvPicPr/>
          <p:nvPr/>
        </p:nvPicPr>
        <p:blipFill>
          <a:blip r:embed="rId1"/>
          <a:stretch/>
        </p:blipFill>
        <p:spPr>
          <a:xfrm>
            <a:off x="4500720" y="404640"/>
            <a:ext cx="4360680" cy="5877000"/>
          </a:xfrm>
          <a:prstGeom prst="rect">
            <a:avLst/>
          </a:prstGeom>
          <a:ln w="0">
            <a:noFill/>
          </a:ln>
        </p:spPr>
      </p:pic>
      <p:sp>
        <p:nvSpPr>
          <p:cNvPr id="34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0920" y="1628640"/>
            <a:ext cx="4897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Now for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some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games</a:t>
            </a:r>
            <a:r>
              <a:rPr b="1" lang="en-GB" sz="10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ources of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00360" y="6021360"/>
            <a:ext cx="59054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Hot object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3" name="Picture 4" descr="Bonfire%20ablaze"/>
          <p:cNvPicPr/>
          <p:nvPr/>
        </p:nvPicPr>
        <p:blipFill>
          <a:blip r:embed="rId1"/>
          <a:stretch/>
        </p:blipFill>
        <p:spPr>
          <a:xfrm>
            <a:off x="1476360" y="1557360"/>
            <a:ext cx="6083280" cy="4201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12000" y="17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A bon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92360" y="1412640"/>
            <a:ext cx="5400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fe2110"/>
                </a:solidFill>
                <a:latin typeface="Comic Sans MS"/>
              </a:rPr>
              <a:t>Colour</a:t>
            </a:r>
            <a:endParaRPr b="1" lang="en-US" sz="10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86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unlight shining on CD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4360" y="1699920"/>
            <a:ext cx="4174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Where do the colours come from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47" name="Picture 5" descr="CD colour larger"/>
          <p:cNvPicPr/>
          <p:nvPr/>
        </p:nvPicPr>
        <p:blipFill>
          <a:blip r:embed="rId1"/>
          <a:stretch/>
        </p:blipFill>
        <p:spPr>
          <a:xfrm>
            <a:off x="826920" y="1773360"/>
            <a:ext cx="3240360" cy="2884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Ds bright smaller"/>
          <p:cNvPicPr/>
          <p:nvPr/>
        </p:nvPicPr>
        <p:blipFill>
          <a:blip r:embed="rId2"/>
          <a:stretch/>
        </p:blipFill>
        <p:spPr>
          <a:xfrm>
            <a:off x="3564000" y="2852640"/>
            <a:ext cx="4464000" cy="349884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02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ainb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019640" y="1773000"/>
            <a:ext cx="15843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orang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ellow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reen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indigo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viole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2" name="Picture 7" descr="Skye rainbowcard"/>
          <p:cNvPicPr/>
          <p:nvPr/>
        </p:nvPicPr>
        <p:blipFill>
          <a:blip r:embed="rId1"/>
          <a:stretch/>
        </p:blipFill>
        <p:spPr>
          <a:xfrm>
            <a:off x="684360" y="1844640"/>
            <a:ext cx="6192720" cy="4044960"/>
          </a:xfrm>
          <a:prstGeom prst="rect">
            <a:avLst/>
          </a:prstGeom>
          <a:ln w="0">
            <a:noFill/>
          </a:ln>
        </p:spPr>
      </p:pic>
      <p:sp>
        <p:nvSpPr>
          <p:cNvPr id="3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ite light is made up of lots of colou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6" name="Picture 4" descr="MCj03918040000[1]"/>
          <p:cNvPicPr/>
          <p:nvPr/>
        </p:nvPicPr>
        <p:blipFill>
          <a:blip r:embed="rId1"/>
          <a:stretch/>
        </p:blipFill>
        <p:spPr>
          <a:xfrm>
            <a:off x="611280" y="3645000"/>
            <a:ext cx="3986280" cy="1079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MCj01043500000[1]"/>
          <p:cNvPicPr/>
          <p:nvPr/>
        </p:nvPicPr>
        <p:blipFill>
          <a:blip r:embed="rId2"/>
          <a:stretch/>
        </p:blipFill>
        <p:spPr>
          <a:xfrm>
            <a:off x="4500720" y="4005360"/>
            <a:ext cx="3944880" cy="369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MCj01979380000[1]"/>
          <p:cNvPicPr/>
          <p:nvPr/>
        </p:nvPicPr>
        <p:blipFill>
          <a:blip r:embed="rId3"/>
          <a:stretch/>
        </p:blipFill>
        <p:spPr>
          <a:xfrm>
            <a:off x="6191280" y="836640"/>
            <a:ext cx="2952720" cy="274320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 from white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42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ook at a lamp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through the grating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will see                           colours.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62" name="Picture 4" descr="difrraction and lamp"/>
          <p:cNvPicPr/>
          <p:nvPr/>
        </p:nvPicPr>
        <p:blipFill>
          <a:blip r:embed="rId1"/>
          <a:stretch/>
        </p:blipFill>
        <p:spPr>
          <a:xfrm>
            <a:off x="324000" y="1628640"/>
            <a:ext cx="3168360" cy="2490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diffraction pattern"/>
          <p:cNvPicPr/>
          <p:nvPr/>
        </p:nvPicPr>
        <p:blipFill>
          <a:blip r:embed="rId2"/>
          <a:stretch/>
        </p:blipFill>
        <p:spPr>
          <a:xfrm>
            <a:off x="3419640" y="3429000"/>
            <a:ext cx="5205240" cy="2938320"/>
          </a:xfrm>
          <a:prstGeom prst="rect">
            <a:avLst/>
          </a:prstGeom>
          <a:ln w="0">
            <a:noFill/>
          </a:ln>
        </p:spPr>
      </p:pic>
      <p:sp>
        <p:nvSpPr>
          <p:cNvPr id="3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21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0"/>
            <a:ext cx="95392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8515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Adding colours</a:t>
            </a:r>
            <a:br>
              <a:rPr sz="6000"/>
            </a:b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 with light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3573360"/>
            <a:ext cx="7704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This is different to adding paint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e2110"/>
                </a:solidFill>
                <a:latin typeface="Comic Sans MS"/>
              </a:rPr>
              <a:t>Red</a:t>
            </a:r>
            <a:r>
              <a:rPr b="1" lang="en-GB" sz="7200" spc="-1" strike="noStrike">
                <a:solidFill>
                  <a:srgbClr val="cc00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0900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98764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The Su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388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unset in Venic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8" name="Picture 5" descr="sunset"/>
          <p:cNvPicPr/>
          <p:nvPr/>
        </p:nvPicPr>
        <p:blipFill>
          <a:blip r:embed="rId1"/>
          <a:stretch/>
        </p:blipFill>
        <p:spPr>
          <a:xfrm>
            <a:off x="1403280" y="1628640"/>
            <a:ext cx="6697800" cy="4676760"/>
          </a:xfrm>
          <a:prstGeom prst="rect">
            <a:avLst/>
          </a:prstGeom>
          <a:ln w="0">
            <a:noFill/>
          </a:ln>
        </p:spPr>
      </p:pic>
      <p:sp>
        <p:nvSpPr>
          <p:cNvPr id="2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r>
              <a:rPr b="1" lang="en-GB" sz="7200" spc="-1" strike="noStrike">
                <a:solidFill>
                  <a:srgbClr val="00cc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cc00"/>
                </a:solidFill>
                <a:latin typeface="Comic Sans MS"/>
              </a:rPr>
              <a:t>Green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1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Green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10000" spc="-1" strike="noStrike">
                <a:solidFill>
                  <a:srgbClr val="f4ee00"/>
                </a:solidFill>
                <a:latin typeface="Comic Sans MS"/>
              </a:rPr>
              <a:t>+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Red</a:t>
            </a:r>
            <a:endParaRPr b="1" lang="en-US" sz="5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6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560" y="0"/>
            <a:ext cx="102250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68360" y="549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51692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Fairy lights</a:t>
            </a:r>
            <a:endParaRPr b="1" lang="en-US" sz="66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70036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635280" y="371628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116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788000" y="400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1908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2771640" y="4365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500364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385128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5867280" y="3933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6012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7020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6"/>
          <p:cNvSpPr/>
          <p:nvPr/>
        </p:nvSpPr>
        <p:spPr>
          <a:xfrm>
            <a:off x="7308720" y="256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Use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asers- produce very bright beams of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toms all give out their light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CDs use laser light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reflection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173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CDs</a:t>
            </a:r>
            <a:endParaRPr b="1" lang="en-US" sz="48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3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urface has tiny pits and smooth bits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piral patte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pits scatter light from a laser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mooth bits reflect the light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so a coded message is read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416" name="Group 30"/>
          <p:cNvGrpSpPr/>
          <p:nvPr/>
        </p:nvGrpSpPr>
        <p:grpSpPr>
          <a:xfrm>
            <a:off x="900000" y="1557360"/>
            <a:ext cx="6748560" cy="2179440"/>
            <a:chOff x="900000" y="1557360"/>
            <a:chExt cx="6748560" cy="2179440"/>
          </a:xfrm>
        </p:grpSpPr>
        <p:grpSp>
          <p:nvGrpSpPr>
            <p:cNvPr id="417" name="Group 15"/>
            <p:cNvGrpSpPr/>
            <p:nvPr/>
          </p:nvGrpSpPr>
          <p:grpSpPr>
            <a:xfrm>
              <a:off x="900000" y="2675880"/>
              <a:ext cx="6748560" cy="1060920"/>
              <a:chOff x="900000" y="2675880"/>
              <a:chExt cx="6748560" cy="1060920"/>
            </a:xfrm>
          </p:grpSpPr>
          <p:grpSp>
            <p:nvGrpSpPr>
              <p:cNvPr id="418" name="Group 16"/>
              <p:cNvGrpSpPr/>
              <p:nvPr/>
            </p:nvGrpSpPr>
            <p:grpSpPr>
              <a:xfrm>
                <a:off x="900000" y="2675880"/>
                <a:ext cx="2013480" cy="1029240"/>
                <a:chOff x="900000" y="2675880"/>
                <a:chExt cx="2013480" cy="1029240"/>
              </a:xfrm>
            </p:grpSpPr>
            <p:sp>
              <p:nvSpPr>
                <p:cNvPr id="419" name="Arc 17"/>
                <p:cNvSpPr/>
                <p:nvPr/>
              </p:nvSpPr>
              <p:spPr>
                <a:xfrm rot="8542200">
                  <a:off x="1981080" y="28530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8"/>
                <p:cNvSpPr/>
                <p:nvPr/>
              </p:nvSpPr>
              <p:spPr>
                <a:xfrm flipV="1">
                  <a:off x="900000" y="31863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9"/>
              <p:cNvGrpSpPr/>
              <p:nvPr/>
            </p:nvGrpSpPr>
            <p:grpSpPr>
              <a:xfrm>
                <a:off x="2880720" y="2692080"/>
                <a:ext cx="2013480" cy="1029240"/>
                <a:chOff x="2880720" y="2692080"/>
                <a:chExt cx="2013480" cy="1029240"/>
              </a:xfrm>
            </p:grpSpPr>
            <p:sp>
              <p:nvSpPr>
                <p:cNvPr id="422" name="Arc 20"/>
                <p:cNvSpPr/>
                <p:nvPr/>
              </p:nvSpPr>
              <p:spPr>
                <a:xfrm rot="8542200">
                  <a:off x="3961800" y="28692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1"/>
                <p:cNvSpPr/>
                <p:nvPr/>
              </p:nvSpPr>
              <p:spPr>
                <a:xfrm flipV="1">
                  <a:off x="2880720" y="32025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22"/>
              <p:cNvGrpSpPr/>
              <p:nvPr/>
            </p:nvGrpSpPr>
            <p:grpSpPr>
              <a:xfrm>
                <a:off x="4866840" y="2707560"/>
                <a:ext cx="2013480" cy="1029240"/>
                <a:chOff x="4866840" y="2707560"/>
                <a:chExt cx="2013480" cy="1029240"/>
              </a:xfrm>
            </p:grpSpPr>
            <p:sp>
              <p:nvSpPr>
                <p:cNvPr id="425" name="Arc 23"/>
                <p:cNvSpPr/>
                <p:nvPr/>
              </p:nvSpPr>
              <p:spPr>
                <a:xfrm rot="8542200">
                  <a:off x="5947920" y="288468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"/>
                <p:cNvSpPr/>
                <p:nvPr/>
              </p:nvSpPr>
              <p:spPr>
                <a:xfrm flipV="1">
                  <a:off x="4866840" y="321804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Line 25"/>
              <p:cNvSpPr/>
              <p:nvPr/>
            </p:nvSpPr>
            <p:spPr>
              <a:xfrm flipV="1">
                <a:off x="6869520" y="3241800"/>
                <a:ext cx="779040" cy="7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Line 26"/>
            <p:cNvSpPr/>
            <p:nvPr/>
          </p:nvSpPr>
          <p:spPr>
            <a:xfrm>
              <a:off x="2700360" y="1702080"/>
              <a:ext cx="576360" cy="1511280"/>
            </a:xfrm>
            <a:prstGeom prst="line">
              <a:avLst/>
            </a:prstGeom>
            <a:ln w="69840">
              <a:solidFill>
                <a:srgbClr val="fe21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V="1">
              <a:off x="3276720" y="1557360"/>
              <a:ext cx="431640" cy="1656000"/>
            </a:xfrm>
            <a:prstGeom prst="line">
              <a:avLst/>
            </a:prstGeom>
            <a:ln w="82440">
              <a:solidFill>
                <a:srgbClr val="fe21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spiral2"/>
          <p:cNvPicPr/>
          <p:nvPr/>
        </p:nvPicPr>
        <p:blipFill>
          <a:blip r:embed="rId1"/>
          <a:stretch/>
        </p:blipFill>
        <p:spPr>
          <a:xfrm>
            <a:off x="6227640" y="7509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1"/>
          <p:cNvSpPr/>
          <p:nvPr/>
        </p:nvSpPr>
        <p:spPr>
          <a:xfrm>
            <a:off x="7667640" y="83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laser show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6818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489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 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aser sh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87280" y="5950080"/>
            <a:ext cx="576108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Physics is in everything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202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tars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4292280"/>
            <a:ext cx="2735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tars and galaxie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6156360" y="6165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Bubble_LT_NSO"/>
          <p:cNvPicPr/>
          <p:nvPr/>
        </p:nvPicPr>
        <p:blipFill>
          <a:blip r:embed="rId1"/>
          <a:stretch/>
        </p:blipFill>
        <p:spPr>
          <a:xfrm>
            <a:off x="3635280" y="981000"/>
            <a:ext cx="4680000" cy="462924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35280" y="836640"/>
            <a:ext cx="331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ightning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pic>
        <p:nvPicPr>
          <p:cNvPr id="236" name="Picture 7" descr="lightning"/>
          <p:cNvPicPr/>
          <p:nvPr/>
        </p:nvPicPr>
        <p:blipFill>
          <a:blip r:embed="rId1"/>
          <a:stretch/>
        </p:blipFill>
        <p:spPr>
          <a:xfrm>
            <a:off x="3564000" y="2781360"/>
            <a:ext cx="5040360" cy="3666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lightning"/>
          <p:cNvPicPr/>
          <p:nvPr/>
        </p:nvPicPr>
        <p:blipFill>
          <a:blip r:embed="rId2"/>
          <a:stretch/>
        </p:blipFill>
        <p:spPr>
          <a:xfrm>
            <a:off x="684360" y="765000"/>
            <a:ext cx="4464000" cy="340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Lightening20050628cr"/>
          <p:cNvPicPr/>
          <p:nvPr/>
        </p:nvPicPr>
        <p:blipFill>
          <a:blip r:embed="rId3"/>
          <a:stretch/>
        </p:blipFill>
        <p:spPr>
          <a:xfrm>
            <a:off x="684360" y="4653000"/>
            <a:ext cx="2627280" cy="17733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A worm living in dark caves sends out light from its tail.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92360" y="2349360"/>
            <a:ext cx="331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quid droplets form a string of shining beads to attract insects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2" name="Picture 4" descr="sorces of light"/>
          <p:cNvPicPr/>
          <p:nvPr/>
        </p:nvPicPr>
        <p:blipFill>
          <a:blip r:embed="rId1"/>
          <a:stretch/>
        </p:blipFill>
        <p:spPr>
          <a:xfrm>
            <a:off x="611280" y="2205000"/>
            <a:ext cx="4645080" cy="3517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26836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 flipH="1" flipV="1">
            <a:off x="2484000" y="4221000"/>
            <a:ext cx="505080" cy="1873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ome cold things give out light: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4681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ome fungi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 worm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stick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EDs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‘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-in-the-dark’ sticke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8" name="Picture 7" descr="Glowing_fungi3"/>
          <p:cNvPicPr/>
          <p:nvPr/>
        </p:nvPicPr>
        <p:blipFill>
          <a:blip r:embed="rId1"/>
          <a:stretch/>
        </p:blipFill>
        <p:spPr>
          <a:xfrm>
            <a:off x="5940360" y="2349360"/>
            <a:ext cx="2451240" cy="29084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How do we see light sources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720" y="4365360"/>
            <a:ext cx="4392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ight travels from a source to our eye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Comic Sans MS"/>
              </a:rPr>
              <a:t>We can see sources in a dark room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52" name="Picture 6" descr="MCj02151650000[1]"/>
          <p:cNvPicPr/>
          <p:nvPr/>
        </p:nvPicPr>
        <p:blipFill>
          <a:blip r:embed="rId1"/>
          <a:stretch/>
        </p:blipFill>
        <p:spPr>
          <a:xfrm rot="11649600">
            <a:off x="1042200" y="3572640"/>
            <a:ext cx="2304720" cy="20322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5"/>
          <p:cNvGrpSpPr/>
          <p:nvPr/>
        </p:nvGrpSpPr>
        <p:grpSpPr>
          <a:xfrm>
            <a:off x="6418800" y="1966680"/>
            <a:ext cx="1355040" cy="1810440"/>
            <a:chOff x="6418800" y="1966680"/>
            <a:chExt cx="1355040" cy="1810440"/>
          </a:xfrm>
        </p:grpSpPr>
        <p:sp>
          <p:nvSpPr>
            <p:cNvPr id="254" name="Freeform 16"/>
            <p:cNvSpPr/>
            <p:nvPr/>
          </p:nvSpPr>
          <p:spPr>
            <a:xfrm rot="20749200">
              <a:off x="6620760" y="2060280"/>
              <a:ext cx="969120" cy="1622520"/>
            </a:xfrm>
            <a:custGeom>
              <a:avLst/>
              <a:gdLst>
                <a:gd name="textAreaLeft" fmla="*/ 0 w 969120"/>
                <a:gd name="textAreaRight" fmla="*/ 969480 w 969120"/>
                <a:gd name="textAreaTop" fmla="*/ 0 h 1622520"/>
                <a:gd name="textAreaBottom" fmla="*/ 1622880 h 162252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17"/>
            <p:cNvSpPr/>
            <p:nvPr/>
          </p:nvSpPr>
          <p:spPr>
            <a:xfrm rot="13945800">
              <a:off x="6517800" y="2582280"/>
              <a:ext cx="864720" cy="67572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8"/>
            <p:cNvSpPr/>
            <p:nvPr/>
          </p:nvSpPr>
          <p:spPr>
            <a:xfrm rot="21081000">
              <a:off x="6729120" y="2688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19"/>
            <p:cNvSpPr/>
            <p:nvPr/>
          </p:nvSpPr>
          <p:spPr>
            <a:xfrm rot="2116200">
              <a:off x="6588000" y="2604600"/>
              <a:ext cx="654840" cy="7232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20"/>
          <p:cNvSpPr/>
          <p:nvPr/>
        </p:nvSpPr>
        <p:spPr>
          <a:xfrm flipV="1">
            <a:off x="3419640" y="3141720"/>
            <a:ext cx="2952720" cy="1008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an we see in the dark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70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If there is </a:t>
            </a:r>
            <a:r>
              <a:rPr b="1" lang="en-GB" sz="2800" spc="-1" strike="noStrike" u="sng">
                <a:solidFill>
                  <a:srgbClr val="9933ff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 light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cannot see anything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et’s try a test–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t a few small objects into the black bag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12T09:25:35Z</dcterms:modified>
  <cp:revision>90</cp:revision>
  <dc:subject/>
  <dc:title>WOW !</dc:title>
</cp:coreProperties>
</file>